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D797-E0F2-4B9A-8C82-A487495A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289-B695-4020-BB6D-705292F1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A80-74B1-4BDB-A0F2-ACCE306E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B15-7A54-45A3-91CE-653D2239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A65-A7B7-49A3-8C63-A2DCA79F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7C1-1A94-45A9-A887-D0139D09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DD8-A9FD-459D-BAFB-1E974794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733-832D-416A-8C36-AC069727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9AB-4C72-4975-A384-D66EC64A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BB0-292B-4B53-8DC6-01DDE176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029-9CF9-4F7E-A246-DADF8D8B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369-7994-438A-BAE6-8AD70DDF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47da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47da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47da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A6A4-AC2A-488B-BCA6-6DF9F281F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609480"/>
            <a:ext cx="8077320" cy="0"/>
          </a:xfrm>
          <a:prstGeom prst="line">
            <a:avLst/>
          </a:prstGeom>
          <a:ln w="19080">
            <a:solidFill>
              <a:srgbClr val="cfd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457200"/>
            <a:ext cx="8229600" cy="0"/>
          </a:xfrm>
          <a:prstGeom prst="line">
            <a:avLst/>
          </a:prstGeom>
          <a:ln w="19080">
            <a:solidFill>
              <a:srgbClr val="cfd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84640" y="163440"/>
            <a:ext cx="41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7dab"/>
                </a:solidFill>
                <a:latin typeface="Arial"/>
              </a:rPr>
              <a:t>The South African National Bioinformatics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838080"/>
            <a:ext cx="0" cy="5791320"/>
          </a:xfrm>
          <a:prstGeom prst="line">
            <a:avLst/>
          </a:prstGeom>
          <a:ln w="19080">
            <a:solidFill>
              <a:srgbClr val="cfd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838080"/>
            <a:ext cx="0" cy="5791320"/>
          </a:xfrm>
          <a:prstGeom prst="line">
            <a:avLst/>
          </a:prstGeom>
          <a:ln w="19080">
            <a:solidFill>
              <a:srgbClr val="cfd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1755720" y="0"/>
            <a:ext cx="7391520" cy="739152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0" y="1752480"/>
            <a:ext cx="8686800" cy="4191120"/>
          </a:xfrm>
          <a:prstGeom prst="rect">
            <a:avLst/>
          </a:prstGeom>
          <a:solidFill>
            <a:srgbClr val="e2f0ff">
              <a:alpha val="50000"/>
            </a:srgbClr>
          </a:solidFill>
          <a:ln w="0">
            <a:noFill/>
          </a:ln>
          <a:effectLst>
            <a:outerShdw dist="253893" dir="2461984" blurRad="0" rotWithShape="0">
              <a:srgbClr val="c9d6e5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aprisa.org/" TargetMode="External"/><Relationship Id="rId2" Type="http://schemas.openxmlformats.org/officeDocument/2006/relationships/hyperlink" Target="http://www.saavi.org.za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vocontology.org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319040"/>
            <a:ext cx="8763120" cy="492948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547dab"/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A couple of words on</a:t>
            </a:r>
            <a:br>
              <a:rPr sz="4400"/>
            </a:b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HIV at SANBI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6200" y="990720"/>
            <a:ext cx="1096920" cy="13716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808080">
                <a:alpha val="25000"/>
              </a:srgbClr>
            </a:outerShdw>
          </a:effectLst>
        </p:spPr>
      </p:pic>
      <p:sp>
        <p:nvSpPr>
          <p:cNvPr id="52" name=""/>
          <p:cNvSpPr/>
          <p:nvPr/>
        </p:nvSpPr>
        <p:spPr>
          <a:xfrm>
            <a:off x="0" y="45720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na Lehväslai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4ae79"/>
                </a:solidFill>
                <a:latin typeface="Arial"/>
              </a:rPr>
              <a:t>SANBI, University of the Western 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on the Representation of 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ford 1-Dec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Describing HIV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Infection / diagnosis / progress / treatment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Patient information / tissue samples / pathogen information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Medication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SANBI Contributors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8160" cy="42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Allan Kamau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  <a:ea typeface="ヒラギノ角ゴ Pro W3"/>
              </a:rPr>
              <a:t>Adele Kruger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Alan Powell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  <a:ea typeface="ヒラギノ角ゴ Pro W3"/>
              </a:rPr>
              <a:t>Ulf Schafer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Anelda Boardman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  <a:ea typeface="ヒラギノ角ゴ Pro W3"/>
              </a:rPr>
              <a:t>Minna 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Lehväslaiho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Heikki Lehväslaiho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Oliver Hofmann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Win Hide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lvl="3" marL="172548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3030"/>
                </a:solidFill>
                <a:latin typeface="Arial"/>
              </a:rPr>
              <a:t>1 December 2006</a:t>
            </a:r>
            <a:br>
              <a:rPr sz="3200"/>
            </a:br>
            <a:r>
              <a:rPr b="0" lang="en-US" sz="4400" spc="-1" strike="noStrike">
                <a:solidFill>
                  <a:srgbClr val="b33030"/>
                </a:solidFill>
                <a:latin typeface="Arial"/>
              </a:rPr>
              <a:t>World AIDS day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Some South African statistics 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2005: 5.5 million out of 47 million population was living with HIV (12%)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HIV prevalence among pregnant women: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0: 0.8% (The first national antenatal survey)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3: 4.3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6: 12.2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7: 17.0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9: 22.4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2001: 24.8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2003: 27.9%.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2005: 30.2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Some South African statistics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Survey in 2004: South Africans spend more time at funerals than having their hair cut, shopping or having a braai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Survey in 2004: more than twice as many people had been to a funeral in the past month than had been to a wedding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Vice president’s </a:t>
            </a:r>
            <a:r>
              <a:rPr b="1" lang="en-US" sz="2400" spc="-1" strike="noStrike">
                <a:solidFill>
                  <a:srgbClr val="547dab"/>
                </a:solidFill>
                <a:latin typeface="Arial"/>
              </a:rPr>
              <a:t>prevention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547dab"/>
                </a:solidFill>
                <a:latin typeface="Arial"/>
              </a:rPr>
              <a:t>take a shower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Health minister’s </a:t>
            </a:r>
            <a:r>
              <a:rPr b="1" lang="en-US" sz="2400" spc="-1" strike="noStrike">
                <a:solidFill>
                  <a:srgbClr val="547dab"/>
                </a:solidFill>
                <a:latin typeface="Arial"/>
              </a:rPr>
              <a:t>cure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547dab"/>
                </a:solidFill>
                <a:latin typeface="Arial"/>
              </a:rPr>
              <a:t>Garlic, lemons and African potatoes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The most prevalent strain in Africa is the</a:t>
            </a:r>
            <a:r>
              <a:rPr b="0" lang="en-US" sz="2400" spc="-1" strike="noStrike">
                <a:solidFill>
                  <a:srgbClr val="b33030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 strain which is more aggressive and more easily spreads via heterosexual contact than the </a:t>
            </a:r>
            <a:r>
              <a:rPr b="0" lang="en-US" sz="2400" spc="-1" strike="noStrike">
                <a:solidFill>
                  <a:srgbClr val="b3303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 strain found in Europe and US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C strain: Africa -&gt; South Americ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C strain: Africa -&gt; India -&gt; Chin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What’s being done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Organizations such the International Red Cross and Red Crescent focus on prevention, care, treatment, and fighting stigma and discrimination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South African National Bioinformatics Institute: CAPRIS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prisa.org/</a:t>
            </a: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and SAAVI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aavi.org.za/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MID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The Molecular Integration Database for HIV dat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Purpose: to integrate HIV biomedical information created by several laboratories into one query enabled interface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The level of organization in MID is that it is a relational database with a BIoMart query interface and a glossary of terms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Potential for developing and contributing to host/pathogen ontology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Heikki@sanbi.ac.z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eVOC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Built as ontologies for human gene expression</a:t>
            </a:r>
            <a:r>
              <a:rPr b="1" lang="en-US" sz="2400" spc="-1" strike="noStrike">
                <a:solidFill>
                  <a:srgbClr val="547dab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to unify gene expression dat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eVOC Pathology describes the pathological state of the tissue from which the sample was prepared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vocontology.org/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PML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Polymorphism Markup Language Project, PML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OMG Standard for Sequence variation and genotyping. It’s created in collaboration with SNP and sequence variation databases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PML tries to be able to interface to ontologies used in healthcare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www.openpml.org (not active yet) or contact Heikki@sanbi.ac.z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7:41:53Z</dcterms:created>
  <dc:creator>anelda</dc:creator>
  <dc:description/>
  <dc:language>en-US</dc:language>
  <cp:lastModifiedBy>anelda</cp:lastModifiedBy>
  <dcterms:modified xsi:type="dcterms:W3CDTF">2006-12-02T17:14:59Z</dcterms:modified>
  <cp:revision>158</cp:revision>
  <dc:subject/>
  <dc:title>PowerPoint Presentation</dc:title>
</cp:coreProperties>
</file>